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344D-C1D8-4C4D-B05D-1100761F3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3CAD-2A5C-4BCF-B0F8-1689ECC7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B029-2331-4C26-8CA1-C23E08F0D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295B-214E-4E0D-815A-925231C05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41A2-278D-475A-8CC3-0E386D0F9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67E7-D07C-41BF-8ADA-56F5E28D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23D2-0D0A-4881-86D0-3EC541AD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B88C-9079-430E-8763-59F6C939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271E-F652-42B3-A67A-52DC32B9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534C-EDD5-418A-93D5-02A2B919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E554-2165-485D-AF45-9BDEF35D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AEB8-AA3A-44DE-8979-A4B43A71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12FF-4CF4-4187-BBA6-45B99670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2B77-15B3-40C1-A3AB-973A9BC6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8BFE-647E-4567-ADF4-8BC5F42B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9F45-5326-4A9A-8D70-80AFCFF1C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37ED-A9B9-4DC3-9F22-A0957D940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B322-D63C-40F4-8895-443E9ADB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BE43-B60F-425D-909F-83F00ADD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80CF-B5BC-463F-A09C-0BB9BB9D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1B3A-30F1-4ECB-A9CE-61DF6D8C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AC38-BA0F-477D-8545-86C9603F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D033-D663-4E4A-8890-B7BD41C9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F318-2B17-4E2E-92B4-F9D61E77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77CF-3B06-4399-86D6-998AE354B2AD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0028-706D-49BF-AEC4-4F407287AAC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roblem Solving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raw a Diagram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by Monica Yuskaiti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2 - Decide how you’re going to solve the problem</a:t>
            </a:r>
            <a:br>
              <a:rPr sz="4400"/>
            </a:b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Choose a metho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Use a graph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Use formula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Write an equation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Make a list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Find a pattern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Work backward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Use reasoning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Draw a diagram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Make a table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Act it out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4114800"/>
            <a:ext cx="3809880" cy="609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2 - Decide how you’re going to solve the problem</a:t>
            </a:r>
            <a:br>
              <a:rPr sz="4400"/>
            </a:b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Make your diagra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543800" y="2819520"/>
            <a:ext cx="380880" cy="533160"/>
          </a:xfrm>
          <a:custGeom>
            <a:avLst/>
            <a:gdLst>
              <a:gd name="textAreaLeft" fmla="*/ 156960 w 380880"/>
              <a:gd name="textAreaRight" fmla="*/ 223920 w 38088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467480" y="21337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079120" y="27432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69640" y="3352680"/>
            <a:ext cx="46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2743200"/>
            <a:ext cx="65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W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1120" y="3048120"/>
            <a:ext cx="276120" cy="304560"/>
          </a:xfrm>
          <a:prstGeom prst="star5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5880" y="2819520"/>
            <a:ext cx="10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tart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525780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11720" y="5257800"/>
            <a:ext cx="146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1 mil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5179680" y="4037040"/>
            <a:ext cx="2160" cy="838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43400" y="320040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81480" y="3198960"/>
            <a:ext cx="0" cy="838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66880" y="4876920"/>
            <a:ext cx="8384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05320" y="487692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43400" y="487692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66880" y="4038480"/>
            <a:ext cx="8384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666880" y="4038120"/>
            <a:ext cx="1800" cy="8384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05320" y="403848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53760" y="4038480"/>
            <a:ext cx="134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finish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91120" y="3886200"/>
            <a:ext cx="276120" cy="304920"/>
          </a:xfrm>
          <a:prstGeom prst="star5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blem Solving is easy if you follow these step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EDUCH091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867280" cy="51055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581280" y="2895480"/>
            <a:ext cx="3173400" cy="28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lve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Step 3 - Solve the problem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43800" y="3429000"/>
            <a:ext cx="380880" cy="533520"/>
          </a:xfrm>
          <a:custGeom>
            <a:avLst/>
            <a:gdLst>
              <a:gd name="textAreaLeft" fmla="*/ 156960 w 380880"/>
              <a:gd name="textAreaRight" fmla="*/ 223920 w 38088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467480" y="274320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79120" y="335268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69640" y="3962520"/>
            <a:ext cx="46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60160" y="3352680"/>
            <a:ext cx="65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W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91120" y="3048120"/>
            <a:ext cx="276120" cy="304560"/>
          </a:xfrm>
          <a:prstGeom prst="star5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5880" y="2819520"/>
            <a:ext cx="10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tart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315200" y="525780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11720" y="5257800"/>
            <a:ext cx="146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1 mil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5179680" y="4037040"/>
            <a:ext cx="2160" cy="838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43400" y="320040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81480" y="3198960"/>
            <a:ext cx="0" cy="838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666880" y="4876920"/>
            <a:ext cx="8384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05320" y="487692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43400" y="487692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66880" y="4038480"/>
            <a:ext cx="8384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666880" y="4038120"/>
            <a:ext cx="1800" cy="8384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53760" y="4038480"/>
            <a:ext cx="134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finish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3886200"/>
            <a:ext cx="276120" cy="304920"/>
          </a:xfrm>
          <a:prstGeom prst="star5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403848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4600" y="1447920"/>
            <a:ext cx="818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Measure the distance between the start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and the finish &amp; compare it to the mile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4343400" y="320040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5029200"/>
            <a:ext cx="8380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blem Solving is easy if you follow these step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EDUCH091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867280" cy="51055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581280" y="2971800"/>
            <a:ext cx="3173400" cy="28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ok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ack &amp;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4 - Look Back &amp; Check</a:t>
            </a:r>
            <a:br>
              <a:rPr sz="4400"/>
            </a:b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Reread the proble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A Girl Scout troop went on a hike. 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First they walked 1 mile east, then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2 miles south, then 3 miles west,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and 1 mile north, then 2 miles east. 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How far is the troop from their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starting point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3429000"/>
            <a:ext cx="53316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67080" y="2743200"/>
            <a:ext cx="5335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67280" y="327672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4648320"/>
            <a:ext cx="1066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438280" y="3962520"/>
            <a:ext cx="10670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934320" y="4648320"/>
            <a:ext cx="990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4114800"/>
            <a:ext cx="5335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429000"/>
            <a:ext cx="5335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3962520"/>
            <a:ext cx="761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4114800"/>
            <a:ext cx="5335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4 - Look Back &amp; Check</a:t>
            </a:r>
            <a:br>
              <a:rPr sz="4400"/>
            </a:b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Compare the information from the problem to your work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72400" y="2895480"/>
            <a:ext cx="380880" cy="533520"/>
          </a:xfrm>
          <a:custGeom>
            <a:avLst/>
            <a:gdLst>
              <a:gd name="textAreaLeft" fmla="*/ 156960 w 380880"/>
              <a:gd name="textAreaRight" fmla="*/ 223920 w 38088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96080" y="22096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307720" y="281952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98240" y="3429000"/>
            <a:ext cx="46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88760" y="2819520"/>
            <a:ext cx="65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W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91320" y="3200400"/>
            <a:ext cx="276120" cy="304920"/>
          </a:xfrm>
          <a:prstGeom prst="star5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02400" y="2971800"/>
            <a:ext cx="10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tart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543800" y="533412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40320" y="5334120"/>
            <a:ext cx="146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1 mil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19920" y="335268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3352680"/>
            <a:ext cx="1440" cy="8384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43400" y="502920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81480" y="5029200"/>
            <a:ext cx="8384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502920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43400" y="419112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343400" y="4191120"/>
            <a:ext cx="1440" cy="838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81480" y="4191120"/>
            <a:ext cx="8384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953960" y="4191120"/>
            <a:ext cx="134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finish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91320" y="4038480"/>
            <a:ext cx="276120" cy="304920"/>
          </a:xfrm>
          <a:prstGeom prst="star5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0" y="4191120"/>
            <a:ext cx="1440" cy="838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1 mile east,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2 miles south,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3 miles west,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1 mile north,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2 miles eas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4 - Look Back &amp; Check</a:t>
            </a:r>
            <a:br>
              <a:rPr sz="4400"/>
            </a:b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Did you solve what the problem asked you to solv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848720" y="3962520"/>
            <a:ext cx="380880" cy="533160"/>
          </a:xfrm>
          <a:custGeom>
            <a:avLst/>
            <a:gdLst>
              <a:gd name="textAreaLeft" fmla="*/ 156960 w 380880"/>
              <a:gd name="textAreaRight" fmla="*/ 223920 w 38088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772400" y="32767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383680" y="38862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774200" y="4495680"/>
            <a:ext cx="46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165080" y="3886200"/>
            <a:ext cx="65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W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15000" y="3809880"/>
            <a:ext cx="276120" cy="304920"/>
          </a:xfrm>
          <a:prstGeom prst="star5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726080" y="3581280"/>
            <a:ext cx="10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tart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43800" y="533412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240320" y="5334120"/>
            <a:ext cx="146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1 mil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43600" y="396252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81680" y="3960720"/>
            <a:ext cx="0" cy="8384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67080" y="5638680"/>
            <a:ext cx="8384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105520" y="563868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943600" y="563868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67080" y="4800600"/>
            <a:ext cx="8384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267080" y="4800600"/>
            <a:ext cx="1800" cy="838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05520" y="480060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78000" y="4800600"/>
            <a:ext cx="134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finish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15000" y="4648320"/>
            <a:ext cx="276120" cy="304560"/>
          </a:xfrm>
          <a:prstGeom prst="star5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1680" y="4799160"/>
            <a:ext cx="0" cy="838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3124080"/>
            <a:ext cx="335304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1 mile east,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2 miles south,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3 miles west,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1 mile north,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2 miles east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213372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How far is the troop from their starting point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867280" y="396252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5943600" y="3505320"/>
            <a:ext cx="380880" cy="761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87480" y="2895480"/>
            <a:ext cx="19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one mil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raw a diagram to solve this problem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Times New Roman"/>
              </a:rPr>
              <a:t>A picture frame with a photo is 15 inches wide and 12 inches high.  A mat around the photo is 1 ½ inches wide on all sides.  What are the dimensions of the photo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95480" y="4114800"/>
            <a:ext cx="3429000" cy="2743200"/>
          </a:xfrm>
          <a:prstGeom prst="rect">
            <a:avLst/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4648320"/>
            <a:ext cx="2362320" cy="1652400"/>
          </a:xfrm>
          <a:prstGeom prst="rect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95480" y="5562720"/>
            <a:ext cx="3429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257800" y="4191120"/>
            <a:ext cx="0" cy="26668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95480" y="609588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4800600"/>
            <a:ext cx="53316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33920" y="4114800"/>
            <a:ext cx="0" cy="5335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6324480"/>
            <a:ext cx="0" cy="5335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15880" y="49528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0" y="5486400"/>
            <a:ext cx="69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11680" y="403848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 ½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92560" y="615636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 ½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20960" y="615636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 ½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87840" y="403848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 ½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5488200" y="403848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304920"/>
            <a:ext cx="6019920" cy="4419360"/>
          </a:xfrm>
          <a:prstGeom prst="rect">
            <a:avLst/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81280" y="1143000"/>
            <a:ext cx="4267440" cy="2819520"/>
          </a:xfrm>
          <a:prstGeom prst="rect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666880" y="2971800"/>
            <a:ext cx="60199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380880"/>
            <a:ext cx="0" cy="43434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373392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848720" y="160020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81280" y="380880"/>
            <a:ext cx="0" cy="7621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10280" y="39625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2520" y="21337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5”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10080" y="129528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2”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86920" y="307800"/>
            <a:ext cx="121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 ½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239600" y="3886200"/>
            <a:ext cx="121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 ½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667600" y="3809880"/>
            <a:ext cx="121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 ½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44520" y="228600"/>
            <a:ext cx="121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 ½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9680" y="4724280"/>
            <a:ext cx="857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tep 1 – Add the two mat edges together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38080" y="1828800"/>
            <a:ext cx="1082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1 ½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1 ½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276720"/>
            <a:ext cx="16761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9000" y="2514600"/>
            <a:ext cx="4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95280" y="3429000"/>
            <a:ext cx="93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2/2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3200" y="342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7520" y="5257800"/>
            <a:ext cx="815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tep 2 – Convert the 2/2 into 1 and add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this to the whole number 2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blem Solving is easy if you follow these step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EDUCH091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867280" cy="51055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581280" y="2895480"/>
            <a:ext cx="3173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derstan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5488200" y="403848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666880" y="304920"/>
            <a:ext cx="6019920" cy="4419360"/>
          </a:xfrm>
          <a:prstGeom prst="rect">
            <a:avLst/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81280" y="1143000"/>
            <a:ext cx="4267440" cy="2819520"/>
          </a:xfrm>
          <a:prstGeom prst="rect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66880" y="2971800"/>
            <a:ext cx="60199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86400" y="380880"/>
            <a:ext cx="0" cy="43434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743200" y="373392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848720" y="160020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81280" y="380880"/>
            <a:ext cx="0" cy="7621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010280" y="39625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962520" y="2133720"/>
            <a:ext cx="144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5”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410080" y="12952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2”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86920" y="307800"/>
            <a:ext cx="121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 ½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239600" y="3886200"/>
            <a:ext cx="121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 ½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667600" y="3809880"/>
            <a:ext cx="121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 ½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544520" y="228600"/>
            <a:ext cx="121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 ½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" y="47242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1828800"/>
            <a:ext cx="1082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1 ½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1 ½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3520" y="3276720"/>
            <a:ext cx="16761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9000" y="2514600"/>
            <a:ext cx="4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121932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39160" y="342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2440" y="5029200"/>
            <a:ext cx="815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tep 2 – Convert the 2/2 into 1 and add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this to the whole number 2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5488200" y="403848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66880" y="304920"/>
            <a:ext cx="6019920" cy="4419360"/>
          </a:xfrm>
          <a:prstGeom prst="rect">
            <a:avLst/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581280" y="1143000"/>
            <a:ext cx="4267440" cy="2819520"/>
          </a:xfrm>
          <a:prstGeom prst="rect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666880" y="2971800"/>
            <a:ext cx="60199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86400" y="380880"/>
            <a:ext cx="0" cy="43434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43200" y="373392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848720" y="160020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581280" y="380880"/>
            <a:ext cx="0" cy="7621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10280" y="39625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962520" y="21337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5”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10080" y="129528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2”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86920" y="307800"/>
            <a:ext cx="121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 ½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239600" y="3886200"/>
            <a:ext cx="121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 ½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667600" y="3809880"/>
            <a:ext cx="121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 ½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544520" y="228600"/>
            <a:ext cx="121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 ½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8600" y="47242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38080" y="1828800"/>
            <a:ext cx="1082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3520" y="3276720"/>
            <a:ext cx="16761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8640" y="251460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38800" y="32767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5029200"/>
            <a:ext cx="80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tep 3 – To get the width of the photo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ubtract the 3 from 15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5488200" y="403848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666880" y="304920"/>
            <a:ext cx="6019920" cy="4419360"/>
          </a:xfrm>
          <a:prstGeom prst="rect">
            <a:avLst/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581280" y="1143000"/>
            <a:ext cx="4267440" cy="2819520"/>
          </a:xfrm>
          <a:prstGeom prst="rect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2971800"/>
            <a:ext cx="60199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486400" y="380880"/>
            <a:ext cx="0" cy="43434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743200" y="373392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848720" y="160020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380880"/>
            <a:ext cx="0" cy="7621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10280" y="39625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62520" y="21337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5”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10080" y="12952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2”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86920" y="307800"/>
            <a:ext cx="121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 ½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239600" y="3886200"/>
            <a:ext cx="121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 ½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667600" y="3809880"/>
            <a:ext cx="121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 ½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544520" y="228600"/>
            <a:ext cx="121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 ½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8600" y="47242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38080" y="1828800"/>
            <a:ext cx="1082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3520" y="3276720"/>
            <a:ext cx="16761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8640" y="251460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067760" y="32767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32800" y="5029200"/>
            <a:ext cx="8143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tep 4 – To get the height of the photo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ubtract the 3 from 12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5488200" y="403848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666880" y="304920"/>
            <a:ext cx="6019920" cy="4419360"/>
          </a:xfrm>
          <a:prstGeom prst="rect">
            <a:avLst/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581280" y="1143000"/>
            <a:ext cx="4267440" cy="2819520"/>
          </a:xfrm>
          <a:prstGeom prst="rect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81280" y="2971800"/>
            <a:ext cx="42674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486400" y="1143000"/>
            <a:ext cx="0" cy="28195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743200" y="373392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848720" y="160020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581280" y="380880"/>
            <a:ext cx="0" cy="7621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010280" y="39625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191120" y="220968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2”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638680" y="129528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9”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86920" y="307800"/>
            <a:ext cx="121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 ½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239600" y="3886200"/>
            <a:ext cx="121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 ½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667600" y="3809880"/>
            <a:ext cx="121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 ½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544520" y="228600"/>
            <a:ext cx="121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 ½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28600" y="47242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38080" y="380880"/>
            <a:ext cx="1082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1828800"/>
            <a:ext cx="16761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59000" y="1066680"/>
            <a:ext cx="4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38800" y="17524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28760" y="4952880"/>
            <a:ext cx="87152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tep 5 – Your photo size is 12 x 9 inches.  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To check your work, add 2 times the mat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width to each of your new measurements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38080" y="2514600"/>
            <a:ext cx="1082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3520" y="3962520"/>
            <a:ext cx="16761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59000" y="3200400"/>
            <a:ext cx="4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38800" y="38862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raw a diagram to solve this problem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The Zunigas, Estoleros, Leys, Penas and Rices all live on the same road in a row.  The Estoleros live in the middle house.  The Penas live in the first house. The Leys live between the Estoleros and the Zunigas.  Who lives in the second house?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990720" y="5181480"/>
            <a:ext cx="961920" cy="914400"/>
          </a:xfrm>
          <a:prstGeom prst="pentagon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590920" y="5181480"/>
            <a:ext cx="961920" cy="914400"/>
          </a:xfrm>
          <a:prstGeom prst="pentagon">
            <a:avLst/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867280" y="5181480"/>
            <a:ext cx="962280" cy="914400"/>
          </a:xfrm>
          <a:prstGeom prst="pentagon">
            <a:avLst/>
          </a:prstGeom>
          <a:solidFill>
            <a:srgbClr val="99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91120" y="5181480"/>
            <a:ext cx="961920" cy="914400"/>
          </a:xfrm>
          <a:prstGeom prst="pentagon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467480" y="5181480"/>
            <a:ext cx="962280" cy="914400"/>
          </a:xfrm>
          <a:prstGeom prst="pentagon">
            <a:avLst/>
          </a:prstGeom>
          <a:solidFill>
            <a:srgbClr val="cc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066680" y="6095880"/>
            <a:ext cx="73915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371600" y="5715000"/>
            <a:ext cx="2286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0" y="5715000"/>
            <a:ext cx="2286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248520" y="5715000"/>
            <a:ext cx="2286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848720" y="5715000"/>
            <a:ext cx="2286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971800" y="5715000"/>
            <a:ext cx="2286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21160" y="5105520"/>
            <a:ext cx="52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297080" y="51055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697880" y="5105520"/>
            <a:ext cx="52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95880" y="5105520"/>
            <a:ext cx="5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819520" y="5105520"/>
            <a:ext cx="55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tep 1 – Understand the problem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Times New Roman"/>
              </a:rPr>
              <a:t>Read the problem carefully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Times New Roman"/>
              </a:rPr>
              <a:t>Find the important information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Times New Roman"/>
              </a:rPr>
              <a:t>Write down the numbers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Times New Roman"/>
              </a:rPr>
              <a:t>Identify what the problem wants you to solve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Times New Roman"/>
              </a:rPr>
              <a:t>Ask if your answer is going to be a larger or smaller number compared to what you already know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1 - Understand the Problem</a:t>
            </a:r>
            <a:br>
              <a:rPr sz="4400"/>
            </a:b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Read the problem carefully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A Girl Scout troop went on a hike.  First they walked 1 mile east, then 2 miles south, then 3 miles west, and 1 mile north, then 2 miles east.  How far is the troop from their starting point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1 - Understand the Problem</a:t>
            </a:r>
            <a:br>
              <a:rPr sz="4400"/>
            </a:b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Find the important informatio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4114800"/>
            <a:ext cx="5335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A Girl Scout troop went on a hike. 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First they walked 1 mile east, then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2 miles south, then 3 miles west,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and 1 mile north, then 2 miles east. 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How far is the troop from their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tarting point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4114800"/>
            <a:ext cx="5335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3429000"/>
            <a:ext cx="5335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3429000"/>
            <a:ext cx="5335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7080" y="2743200"/>
            <a:ext cx="5335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327672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4648320"/>
            <a:ext cx="1066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3962520"/>
            <a:ext cx="10670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3962520"/>
            <a:ext cx="761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648320"/>
            <a:ext cx="990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1 - Understand the Problem</a:t>
            </a:r>
            <a:br>
              <a:rPr sz="4400"/>
            </a:b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Write down the key informatio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57800" y="4114800"/>
            <a:ext cx="5335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A Girl Scout troop went on a hike. 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First they walked 1 mile east, then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2 miles south, then 3 miles west,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and 1 mile north, then 2 miles east. 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How far is the troop from their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tarting point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4114800"/>
            <a:ext cx="5335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3429000"/>
            <a:ext cx="5335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3429000"/>
            <a:ext cx="5335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67080" y="2743200"/>
            <a:ext cx="5335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327672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8120" y="4648320"/>
            <a:ext cx="1066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38280" y="3962520"/>
            <a:ext cx="10670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77120" y="3962520"/>
            <a:ext cx="761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34320" y="4648320"/>
            <a:ext cx="990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1 - Understand the Problem</a:t>
            </a:r>
            <a:br>
              <a:rPr sz="4400"/>
            </a:b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Write down the key informatio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19160" y="205740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1 mile east,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2 miles south,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3 miles west,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1 mile north,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2 miles eas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 1 - Understand the Problem</a:t>
            </a:r>
            <a:br>
              <a:rPr sz="4400"/>
            </a:b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Identify what the problem wants you to solv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2362320"/>
            <a:ext cx="8153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A Girl Scout troop went on a hike.  First they walked 1 mile east, then 2 miles south, then 3 miles west, and 1 mile north, then 2 miles east. 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How far is the troop from their starting point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blem Solving is easy if you follow these step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EDUCH091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867280" cy="51055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581280" y="2666880"/>
            <a:ext cx="317340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cide how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’re going to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lve th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oblem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5T15:09:23Z</dcterms:created>
  <dc:creator>Monica/Bob Yuskaitis</dc:creator>
  <dc:description/>
  <dc:language>en-US</dc:language>
  <cp:lastModifiedBy>Monica/Bob Yuskaitis</cp:lastModifiedBy>
  <dcterms:modified xsi:type="dcterms:W3CDTF">2000-02-06T15:13:11Z</dcterms:modified>
  <cp:revision>5</cp:revision>
  <dc:subject/>
  <dc:title>Problem Solving</dc:title>
</cp:coreProperties>
</file>